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8B5-571B-4F13-A793-2395880E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2E5-C2B9-415D-A4A2-F8F2481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22C-BE78-49C9-A89A-C337DBD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293-9B1E-4AD4-8C91-812D2BCC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DB03-A959-48DC-A8BB-87AC09E3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ABC-7885-4DCA-BB1F-3F0C7906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DFD3-1E7E-4D2E-B46A-D2936479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0A9B-F0C3-4871-8112-A852977A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E78F-88D3-4817-9350-5DD23C3D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978-CB88-44C5-8183-5A1AA4C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765-2316-48CD-95F5-7F5AB4C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2B7-147E-411D-8C7C-E76FABFB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CADF-324A-42E3-B390-FF685252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2A53-1AEF-4439-9C57-085A30E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4C2-D5BA-4116-8287-9C73200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A603-D4F5-4638-B9AC-B5C0E193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7EEC-F132-42B8-A11D-C074327F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B9D-D020-4D22-985F-D1DEFFF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284-3B41-4653-9158-23C99A3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C9C-AA74-4B26-A931-EC93794D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4A9-7AFB-4297-9041-6C64E28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67F-2B1B-4BA8-B3BF-894B8AA1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12A-B493-43CF-9549-98F11F8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78F-33FB-4438-9313-8735861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EBC-DD51-4CF8-80A8-CF4EDB8CC7D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F4A1-DB65-4728-A286-0A7A286B617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I: Data Analysis: Analyzing Qualitative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types of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odes developed before the data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ctive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velop codes during 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recording notes about what the researcher is learning or feeling from the raw data during and after 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s are an additional tool to help analy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ding and analyz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n pairs to complete the code l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er can use many tools to draw conclu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process of quantifying data (e.g. counting how many times a word appear or a code is repeated) Important for summarizing final fi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Hierarchical or strict inclus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adley’s Universal Semantic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ilds relationship between categories and codes using a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Network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fine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ist some resources of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xplain  what is meant by qualitative data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dentify the parts of qualitative data analysis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 form of words rather tha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urc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Audio reco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Field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Re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Survey com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Historical rec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Photos,painting, so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Typ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books, writing, stories, survey comments, news articles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Un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transcriptions, interviews, focus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Audio recor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Visual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organizing the raw data in categories, identifying relationships among the categories to provide an explanationand understanding of people and situations which are investig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nvolves 3 proced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of th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ing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ranscript the information to visualiz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1 I   So you are saying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2 R  Yes, I think that……………………………………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3      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4     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5  I   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cation of theme (cod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In this step researcher combine the data  for themes and categories the mark similar passage of the text with a theme label (co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can be based on themes, ideas, concepts, terms, phrases or key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are given a meaningful name to indentify the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The number of codes grow as we read through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5:42Z</dcterms:modified>
  <cp:revision>68</cp:revision>
  <dc:subject/>
  <dc:title>Course: Fundamentals of Research</dc:title>
</cp:coreProperties>
</file>